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4AE7-4768-47BB-BC96-45F92476F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25DB-F8A1-47E1-9F47-07C63AE3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0EF45-1C37-4ACB-8BDF-9BCDBE4E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ECBAB-087B-4453-937F-200ABDC5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920F1-B693-401E-A89F-8CC96C9C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B8C0A8-8050-4A1A-B521-4BE263F4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D28936-760B-48F1-91E6-B6F0A32F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9F36A-971A-4DA6-88A0-10F5AF62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BC3F3-AA2B-4656-8AEC-BB4D3FAA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5186D-B63A-46F9-A19F-569499FC8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388DA-6E23-4B0F-BBB6-8639548B9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475FA1-AD04-4D0F-B6D9-3C9F92836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BC2A-96F3-4A48-BDED-CE3B72E71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334EE0-FF21-4272-8184-5ACF4172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D6E43F-AA61-405A-8E86-F38C3F76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39F6E4-3703-4554-AB61-50F54AF3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4A3260-7D43-48E5-B2C8-F9CBE3DD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9F841-C2E9-4A59-BEFC-DE2187BF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CC9F8-1ACE-4664-960B-693C99A6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FC4AD-F9DE-424B-A7A9-4341AE2C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4A4E06-D444-4B10-B2E9-D31B5F1A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24650-202B-41FF-9535-E3CD51B5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89AD4-07BB-4EFD-B06E-A39F40F17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6D15-99DD-441E-89AA-A95D4D915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E1D0A-15FC-4DF7-BEEF-37793B7BA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9D703-4B09-42EB-95F7-F22AE2B64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33806-5084-406C-9A31-92E7AC16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D3C85-EBE6-451C-A1AF-34FB2B37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815AF-077F-4E84-8204-A1BACCC3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A0199-57F2-4C43-A1AB-138FDC2E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712C1-778F-4A22-B55F-D52536D0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33A88-4002-472C-ABF9-D4145835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31D19-1792-4F2D-BC79-42B444B6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A0D8F-3B0D-4E30-82EF-670A6E10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06B7-5475-4E03-ACAA-37A81B42E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7DAA0-3205-4312-B656-7689C132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EBEEF-6F63-4E75-A806-60617EDC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22787-4131-464B-AB08-095BDE05D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8D513C-799D-4730-AC9D-82BFB1A9D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4D1A9D-1546-429B-B418-32CF6D3F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7E0F67-D4F7-41D8-8770-80035375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26240C-33EC-4DE2-B7CC-E1C8E11C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B61068-E1B4-441C-A19D-49592795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E92F52-0F37-482D-9825-78904D26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64904-9D4C-4B60-89C2-C46C6F28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704F-D290-4FF4-9EBB-4C22B616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2FAF6C-2E1E-444B-BFB7-B9AA0679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D5378B-57C8-4460-A786-B99D6249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6EB3A-D871-434F-8CED-0BCCCF4F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4437CD-7FCF-48D9-A6F7-B290BFD67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765EC9-5386-44C3-80EA-3B326FB0F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8ECC96-4AA5-4DD3-A3D7-A5300E99D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97D509-5255-42F6-A0BC-12C46FB8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AC8062-1049-42D2-8828-AEF96434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B8B3E4-2041-4996-A006-AF7310D8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621B7F-FBC1-45FD-B69D-70B3D716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BE25-4E0B-4A22-A9FD-66ED36D5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0369C7-10B6-4FE9-A9C3-263EFFE3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6C79F0-3FC9-4F4E-8CEC-D9483866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246560-1953-4F1A-995A-1F74C897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84AB05-51E9-4802-963B-931004B2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B1B98F-A5D2-4625-8709-CB60EE26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B50659-8FDC-49FD-8253-CF9CB0B24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6D4F7A-DAD0-4E31-B76A-9A2004213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8E9973-914E-49D0-8A0F-A9ED10BA1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32CE91-D90E-42C5-8CC0-E5BCFEF9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1D41CF-07AF-4169-9C7F-98F4FE3D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7BA7-C4CA-450A-9981-A302F7A3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2C8D04-E9B7-4F80-A8A0-04E2BBC3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B76747-4FEC-410C-A4BA-0291CB54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2FB913-3E06-46F5-A3FE-115B933C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DC0043-3F2B-41D7-8C36-D1B20746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52FE6E-43AB-40A4-B016-93A07546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468634-4C22-4A42-9488-5EA62807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536DB6-A4D0-4931-B371-C72F1FEC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BC6B62-8360-4BA1-A7AB-21693FB0B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D98323-C6B1-4CFF-B071-45C07B6E3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9711B5-6796-42F8-B4AC-8D6A89AE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CD01-1F66-477B-A69B-D4440F70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2AEEA8-9363-46AE-837E-2566DA46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24F85C-802E-45B4-BF07-479357B7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53195F-695F-4CBA-9256-19F6E869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D1ECC3-6803-4E6D-A636-5FAB3FBE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1DC84C-3DDC-410E-8C86-0F6B7EC7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93853E-9CD1-493A-8264-02DF2154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DAD754-8C3E-4401-8A0F-E0C64F15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7D0CF7-F124-402D-8A75-73292583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871B76-23C9-4953-B1BF-8B554114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31E25A-1EC0-41FF-B7C3-A94C8177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0999-DD7A-4536-B0FF-D5FB6C5E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A54D32-B4C5-45E7-9988-242D2468F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9782A8-14CC-483B-9E6C-0177EDAAC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45CAEF-35A8-4654-8F14-342A6289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8E8654-C783-4892-BC06-FB5AC4DF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652E65-F987-4D0B-B027-A0DB125B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A25095-7DAF-4D06-9255-26D5B3BA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34B9E4-C462-413C-B512-AD82C8A3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F9BADE-32E2-45F8-9872-2715D94A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810FF2-78C1-43B0-BCC7-86E05497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E6A837-FDEC-41EF-9675-BB87BED3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A324-6310-4085-82CF-93B62078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15F83D-8D41-4D1D-BE7C-5B21546B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D505ED-315E-42E1-9D3E-AE425F44F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61C025-E98C-4E49-B637-73A498877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FD02B3-BF69-4451-8EBA-7B6F3719D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9B0871-FEFB-4179-844E-33573016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08C90E-92FA-4E95-89D9-1981DD3B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57C7BD-7E82-4CD7-8F42-07A3A696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E40B67-F456-4C41-9064-19C39EF5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3959C9-E5B4-427F-A1C4-CB20DDFB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CB1E1A-7C75-4996-8456-8542486B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F6DD-CC96-4D1C-8394-1E4AE863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EC3D-B46A-4458-B4F0-F731E84F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35FC81-076E-40A5-A20F-B651EA11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3C5E0C-DABB-41EC-AA6B-7CAED298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5FFDD4-CA6C-446F-9A72-F9A44BB7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C6230C-A856-446F-BECD-AD4B2095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C69423-8CE4-4EF9-A04F-EF4D68848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FEBEB8-CCE6-4538-BA46-C42EAAA2B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5BD6B6-F812-4C98-8C2B-C65D76C0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9415A3-FBF7-429D-8F7C-2002D0FE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1C92F7-7E58-4737-B625-35F4F5C9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994C8A-5C06-4AC0-9A2C-6A303EC3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B6E7-52FF-4410-91CF-5E0A642C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ACADA1-029C-4DF9-8C4D-20725427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5C3D0D-8F09-47FF-B62A-4AE6F076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A0697E-7689-4660-BCEE-44F13A69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DFD4F0-2EC8-4030-BC7A-01337CE9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EB7A33-736E-4548-BB32-CF9186EF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B66E33-0982-49D9-9D09-52AF2F96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7FEC55-17EE-4290-86F5-BCBC9A439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17BC03-2E22-4BFD-8298-A73DCAE5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AF969F-9638-4CD6-815C-7BD0CF32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8B8483-E446-4B6A-A105-F3FD31B0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2124-0DCB-4F52-984A-145B3697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9D3249-1D21-49C9-9028-484554C3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FA0C05-537D-4CC3-A068-1FFA6FDB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29C50F-527A-41F7-B3C2-C8F563EB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CF57CC-F848-4DF7-99AC-7616F2E9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FA1B9E-36F3-4720-9E0F-79F71B89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0DA74F-3C54-4741-B365-F56CCCE0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5E45C3-9630-4E20-A28B-7EF1823D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DDD190-0378-4419-902A-617262602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BAD372-A8D9-4078-B1B1-43CDD9884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D5A9B4-6EB4-4D49-A0C3-B89F0806D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C792-C031-456D-BC0A-C9C2BB477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A4C7CD-B1F3-4810-93A4-96C9CF40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0BD12D-4363-4E66-89EF-EC340302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D070DE-ED30-44BD-BFFD-EADE45BC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6B4048-EC37-4CC7-B193-6FDE2EE0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2A73CC-EC74-409E-BC1A-E5A858A6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7C6E65-A115-4746-A7D4-B23DABFC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17A985-DC11-43E3-8FE4-6EEE02A1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E5A8C4-9EB8-418D-98A9-FA30B2E9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34E51B-CC2F-4911-B9BA-4130138A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B398A1-CDBE-421B-AC73-36F13B96B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AC9D-3324-40A0-A695-A44C17E0E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EBA351-7398-49CD-85BA-F97A88C4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BE2996-1D13-4069-98E1-76E659F90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6A9FF7-1B31-4473-8B17-D243A641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80985C-5080-4C78-8144-1E597347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C1A295-DCB2-487C-A258-CB5BF57A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20EA51-A278-43AD-874D-1811A132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D8BEDF-A09E-4BA0-9B2B-3CBF81BB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6ED2B7-8D83-4687-BB17-8C068B32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9CF411-957C-4640-BEAC-9EF3E99F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16943C-C56E-4B6D-8984-7DB75446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53D3E-D87C-4F96-AAFD-E5E3EF65D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89E48C-CC3C-4833-9DED-FCB7573A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F7B0A8-DB79-4B25-91C5-EB9B635AF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88C54B-FFF2-4990-9D0E-7D8233BD0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8B7F3-2C61-48D9-ADBF-AF976D59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9F885-EC79-47D9-87BD-9B3C5309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EE7C5-AE09-471E-A080-B24E7D5E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C4C5C-A654-4B04-8EAB-0611ADD7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6002-127C-4632-A34A-3452FFBD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BB94E-56D5-431B-9F56-9EFC6CFA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7E69A-1FF1-4AE1-AF63-148B9A59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0C4FF-9D6D-48A2-9346-0CC97018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FC6DE-8D44-43D5-BF6A-F4C3D9B7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80C91-31A2-4C78-9288-440237BE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085DE-DE42-45D6-A82D-8A1F3D705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7AA74-DDEC-41FA-8591-21F9B792C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2C29A-E48A-4CC6-9C95-8740FDCA2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9CB3C-E023-4EC6-BC34-720FE296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5403E-8D9C-41DC-AD16-EDE22777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B6A0-FC96-47E9-AD30-D5AFB413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23FF3-BE9B-42DF-86CD-50C5D204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11122-8813-452D-8A38-F1C35D6C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C9105-79E5-450E-8358-0B5C0397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DF69F-1D58-4C79-9B39-49DF98EA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71A6C-1DFE-4E5E-971F-2E2E5168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5B608-0283-4B40-90D0-FBE83A55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5DD50-30EF-4471-BFBE-8D8A834C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302C5-A45B-490C-91E4-767DA6661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7C0F8-1909-4185-9996-2A0E6801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C33E1-6FA8-417C-9D6B-BF28AC55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872D-20EF-49D4-BE7E-DAAC84D8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0A54F-5654-49F1-B12D-CAABEC30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8C241-D90A-4A99-90E7-D2E62754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31325-EDD0-4FC4-B6D4-CF379E73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07FBE-5411-4E89-963D-2FD2D014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C458E-08F9-4EF0-A9E5-19CC86A4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9904D-1624-4033-9FC5-113D3C5F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0CD51-DF6F-4BDB-8D7F-D154CEBC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82CE0-3495-4B49-8DA5-5E98B98E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DCDC0-FF1C-4734-94D7-D65141DD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44AEF-71EE-47F0-8500-A00572938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AB33-9230-4FAD-AD18-D6801629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A196E-FACD-46DB-BF9C-4077D9A58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CDAD4-9761-433A-9E69-955E5CEF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F6563-B9A9-4F06-9092-903C12B9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7CE66-EE20-45A6-8A03-22AD3462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E23F3-E202-4E75-918D-DA792D50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D7768-CEB9-4C6C-AA34-C269A040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A98E3-F856-4EF1-9A03-49EE653A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558CD-CBF8-406A-835A-5184267F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A215B-FB7F-4646-8F78-A10C9DD6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C3082-D224-46BD-8F7D-314A2A68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AFF3-40A1-4991-AA99-D810A355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A6A3A-1E53-4A33-B91D-5E843F45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497E6-BE37-495A-880F-3A70370B2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5BE45-7C93-4FA2-A1BA-7C030A3CF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25C96-37B4-44F8-8924-5A891F7F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473DB-EFA0-4A91-930D-464A3208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4CE83-EE1D-440A-8772-DC8CB420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4C7EA-BF2A-461D-AC32-662F62A2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41208-61D8-4049-90BE-74B7DBED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8E95C-87AE-4311-8971-173EB31A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76501-F297-4646-A173-ABA5CA92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BE3C-52CA-4AE0-ADD1-D4EADA7C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67101-7143-45DC-AB37-E803D0F5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935E6-454B-4F81-A8D8-3B24AD9B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79EB1-00D6-472A-9CDB-6175693A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41D9A-E041-415F-B114-9A7CFD532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5F2F8-E15D-465F-91BD-02A2FEE27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5A015-F114-4A3A-A3D4-ABB91649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94E66-B2A7-46D0-9C69-9838461F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E98BE-7612-4C96-A5DC-0305C4DC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69BB7-A804-4A82-935F-D479AEF7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8DA22-4C69-461D-ACFE-0B611340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F781-DA56-4F10-A704-D1AC44AB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C6024-0639-4359-81A6-FFB430A3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5F750-445F-4181-BDE4-820F3790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381F9-5EF3-4D3A-96A3-4FAFA913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0D219-4E70-4884-9CAF-B5F000DE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7EB74-2AFA-4CB1-B944-984D7DB3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57EF3-5AE7-43E1-8D34-F4474AF29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FC470-1601-4CCF-B0C4-A5E62EC4D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1AD9E-9018-4558-89EB-0F7F115AD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41BB9A-8D54-4296-84F3-A2E42E73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04970B-7443-4727-9529-82261E93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0088-E733-4E0B-9050-C926E3122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9CBC-001B-457B-BACF-E7C406F344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870A-2115-4206-9121-D5B1B025DD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A1CF-5662-451E-8F82-D0BF18371E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7834-192C-49D1-97AF-DE42CB675D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BAFB-1FD6-46D5-9D3D-EDC3630E42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DB5E-C272-40A1-B24E-DA7E91AAC2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BD77-66A7-47D4-BCCE-1EA6C6B7B6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CBB9-66D5-4BDA-8324-EE90A3CB95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6819-1C47-4A0F-BF6D-1349C7E164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30A2-4691-452A-99AF-C336B79C08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A3F5-C731-4501-A5AE-C0D4AEDD4D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BED2-98CE-46A3-A4B7-612404F478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8A46-2BB0-4C52-93F9-77D50EDE8E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41F9-57F0-44B3-B50B-19DF485E5E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1EB7-CDBE-43B7-BA7A-0520D7FD4A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0DF4-7ED3-437C-A202-29FCA70D43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06CC-BDDF-4F96-A436-7A6A675DB5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2101-9E7C-4762-BB50-BC103605BA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ECDC-8DCB-4581-BF8E-41D10D8240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7403-656D-4F2B-9B02-45926FEEF7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D76D-035C-44B2-87C4-FD167BA996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04D3-A12E-4F2E-8A16-E224FD9E20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8F23-F9C7-40BE-8452-D15DCF2F60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AEF6-C1BF-4480-AB4C-1A5AA82F5E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F716-9C09-41B9-8E0C-1B943E14BE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C825-8226-45BF-8E9C-84DAEE75AA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1323-20B3-43D9-BDF1-A92531B9D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5BB0-BE1C-4CA2-9DBA-6A35DE85F4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4B23-9D40-42D0-9DCE-CB24C190DC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5CA5-5DF5-4252-90CA-E8FDBDEA0D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92C6-576B-46B3-AD71-12CB7BAF19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62FC-D444-448C-8A37-C8CA0A4CD9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8A62-CF2C-4517-B09D-C7E1CD2DD8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6671-E48E-40BA-8AA7-A908DEB707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B98E-297A-4D37-81F0-FE7A1B0D16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70B9-B788-472B-A1B2-282AC49ECE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C80B-303B-4279-9BFB-78313FF603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1327-F603-4821-90E2-0F2AAD8899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7A36-2BED-4562-8530-6DBD3234A2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0" descr=""/>
          <p:cNvPicPr/>
          <p:nvPr/>
        </p:nvPicPr>
        <p:blipFill>
          <a:blip r:embed="rId1"/>
          <a:stretch/>
        </p:blipFill>
        <p:spPr>
          <a:xfrm>
            <a:off x="285840" y="3086280"/>
            <a:ext cx="8643960" cy="55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8124840" cy="6072120"/>
          </a:xfrm>
          <a:prstGeom prst="rect">
            <a:avLst/>
          </a:prstGeom>
          <a:ln w="0">
            <a:noFill/>
          </a:ln>
        </p:spPr>
      </p:pic>
      <p:sp>
        <p:nvSpPr>
          <p:cNvPr id="1024" name="矩形 2"/>
          <p:cNvSpPr/>
          <p:nvPr/>
        </p:nvSpPr>
        <p:spPr>
          <a:xfrm>
            <a:off x="857160" y="250020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3"/>
          <p:cNvSpPr/>
          <p:nvPr/>
        </p:nvSpPr>
        <p:spPr>
          <a:xfrm>
            <a:off x="928800" y="492912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2" descr=""/>
          <p:cNvPicPr/>
          <p:nvPr/>
        </p:nvPicPr>
        <p:blipFill>
          <a:blip r:embed="rId1"/>
          <a:stretch/>
        </p:blipFill>
        <p:spPr>
          <a:xfrm>
            <a:off x="500040" y="733320"/>
            <a:ext cx="8191440" cy="6124680"/>
          </a:xfrm>
          <a:prstGeom prst="rect">
            <a:avLst/>
          </a:prstGeom>
          <a:ln w="0">
            <a:noFill/>
          </a:ln>
        </p:spPr>
      </p:pic>
      <p:sp>
        <p:nvSpPr>
          <p:cNvPr id="1027" name="矩形 2"/>
          <p:cNvSpPr/>
          <p:nvPr/>
        </p:nvSpPr>
        <p:spPr>
          <a:xfrm>
            <a:off x="928800" y="7858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3"/>
          <p:cNvSpPr/>
          <p:nvPr/>
        </p:nvSpPr>
        <p:spPr>
          <a:xfrm>
            <a:off x="928800" y="28576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4"/>
          <p:cNvSpPr/>
          <p:nvPr/>
        </p:nvSpPr>
        <p:spPr>
          <a:xfrm>
            <a:off x="928800" y="435780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2" descr=""/>
          <p:cNvPicPr/>
          <p:nvPr/>
        </p:nvPicPr>
        <p:blipFill>
          <a:blip r:embed="rId1"/>
          <a:stretch/>
        </p:blipFill>
        <p:spPr>
          <a:xfrm>
            <a:off x="500040" y="1143000"/>
            <a:ext cx="8267760" cy="35337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2"/>
          <a:stretch/>
        </p:blipFill>
        <p:spPr>
          <a:xfrm>
            <a:off x="500040" y="4857840"/>
            <a:ext cx="8229600" cy="1504800"/>
          </a:xfrm>
          <a:prstGeom prst="rect">
            <a:avLst/>
          </a:prstGeom>
          <a:ln w="0">
            <a:noFill/>
          </a:ln>
        </p:spPr>
      </p:pic>
      <p:sp>
        <p:nvSpPr>
          <p:cNvPr id="1032" name="矩形 3"/>
          <p:cNvSpPr/>
          <p:nvPr/>
        </p:nvSpPr>
        <p:spPr>
          <a:xfrm>
            <a:off x="3357720" y="1714680"/>
            <a:ext cx="121428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4"/>
          <p:cNvSpPr/>
          <p:nvPr/>
        </p:nvSpPr>
        <p:spPr>
          <a:xfrm>
            <a:off x="3571920" y="2214720"/>
            <a:ext cx="2357280" cy="334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5"/>
          <p:cNvSpPr/>
          <p:nvPr/>
        </p:nvSpPr>
        <p:spPr>
          <a:xfrm>
            <a:off x="2428920" y="3286080"/>
            <a:ext cx="121428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6"/>
          <p:cNvSpPr/>
          <p:nvPr/>
        </p:nvSpPr>
        <p:spPr>
          <a:xfrm>
            <a:off x="1285920" y="3786120"/>
            <a:ext cx="121428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7"/>
          <p:cNvSpPr/>
          <p:nvPr/>
        </p:nvSpPr>
        <p:spPr>
          <a:xfrm>
            <a:off x="4429080" y="4286160"/>
            <a:ext cx="121464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8"/>
          <p:cNvSpPr/>
          <p:nvPr/>
        </p:nvSpPr>
        <p:spPr>
          <a:xfrm>
            <a:off x="2714760" y="5429160"/>
            <a:ext cx="121428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2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8086680" cy="5705280"/>
          </a:xfrm>
          <a:prstGeom prst="rect">
            <a:avLst/>
          </a:prstGeom>
          <a:ln w="0">
            <a:noFill/>
          </a:ln>
        </p:spPr>
      </p:pic>
      <p:sp>
        <p:nvSpPr>
          <p:cNvPr id="1039" name="矩形 2"/>
          <p:cNvSpPr/>
          <p:nvPr/>
        </p:nvSpPr>
        <p:spPr>
          <a:xfrm>
            <a:off x="1928880" y="1928880"/>
            <a:ext cx="121428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3"/>
          <p:cNvSpPr/>
          <p:nvPr/>
        </p:nvSpPr>
        <p:spPr>
          <a:xfrm>
            <a:off x="7429680" y="1965240"/>
            <a:ext cx="8571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4"/>
          <p:cNvSpPr/>
          <p:nvPr/>
        </p:nvSpPr>
        <p:spPr>
          <a:xfrm>
            <a:off x="2857680" y="2949480"/>
            <a:ext cx="928440" cy="336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5"/>
          <p:cNvSpPr/>
          <p:nvPr/>
        </p:nvSpPr>
        <p:spPr>
          <a:xfrm>
            <a:off x="7286760" y="2936880"/>
            <a:ext cx="857160" cy="349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6"/>
          <p:cNvSpPr/>
          <p:nvPr/>
        </p:nvSpPr>
        <p:spPr>
          <a:xfrm>
            <a:off x="1214280" y="3500280"/>
            <a:ext cx="11430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7"/>
          <p:cNvSpPr/>
          <p:nvPr/>
        </p:nvSpPr>
        <p:spPr>
          <a:xfrm>
            <a:off x="2214720" y="4500720"/>
            <a:ext cx="92844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8"/>
          <p:cNvSpPr/>
          <p:nvPr/>
        </p:nvSpPr>
        <p:spPr>
          <a:xfrm>
            <a:off x="4357800" y="4479840"/>
            <a:ext cx="1403280" cy="3524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9"/>
          <p:cNvSpPr/>
          <p:nvPr/>
        </p:nvSpPr>
        <p:spPr>
          <a:xfrm>
            <a:off x="6357960" y="4500720"/>
            <a:ext cx="1928880" cy="322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10"/>
          <p:cNvSpPr/>
          <p:nvPr/>
        </p:nvSpPr>
        <p:spPr>
          <a:xfrm>
            <a:off x="4143240" y="6072120"/>
            <a:ext cx="7146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11"/>
          <p:cNvSpPr/>
          <p:nvPr/>
        </p:nvSpPr>
        <p:spPr>
          <a:xfrm>
            <a:off x="5178600" y="6043680"/>
            <a:ext cx="101592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12"/>
          <p:cNvSpPr/>
          <p:nvPr/>
        </p:nvSpPr>
        <p:spPr>
          <a:xfrm>
            <a:off x="6546960" y="6060960"/>
            <a:ext cx="8571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Picture 2" descr=""/>
          <p:cNvPicPr/>
          <p:nvPr/>
        </p:nvPicPr>
        <p:blipFill>
          <a:blip r:embed="rId1"/>
          <a:stretch/>
        </p:blipFill>
        <p:spPr>
          <a:xfrm>
            <a:off x="500040" y="857160"/>
            <a:ext cx="823932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2" descr=""/>
          <p:cNvPicPr/>
          <p:nvPr/>
        </p:nvPicPr>
        <p:blipFill>
          <a:blip r:embed="rId1"/>
          <a:stretch/>
        </p:blipFill>
        <p:spPr>
          <a:xfrm>
            <a:off x="433440" y="1400040"/>
            <a:ext cx="827712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2" descr=""/>
          <p:cNvPicPr/>
          <p:nvPr/>
        </p:nvPicPr>
        <p:blipFill>
          <a:blip r:embed="rId1"/>
          <a:stretch/>
        </p:blipFill>
        <p:spPr>
          <a:xfrm>
            <a:off x="452520" y="1014480"/>
            <a:ext cx="8238960" cy="4829040"/>
          </a:xfrm>
          <a:prstGeom prst="rect">
            <a:avLst/>
          </a:prstGeom>
          <a:ln w="0">
            <a:noFill/>
          </a:ln>
        </p:spPr>
      </p:pic>
      <p:sp>
        <p:nvSpPr>
          <p:cNvPr id="1053" name="矩形 2"/>
          <p:cNvSpPr/>
          <p:nvPr/>
        </p:nvSpPr>
        <p:spPr>
          <a:xfrm>
            <a:off x="857160" y="164304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3"/>
          <p:cNvSpPr/>
          <p:nvPr/>
        </p:nvSpPr>
        <p:spPr>
          <a:xfrm>
            <a:off x="785880" y="2714760"/>
            <a:ext cx="42840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4"/>
          <p:cNvSpPr/>
          <p:nvPr/>
        </p:nvSpPr>
        <p:spPr>
          <a:xfrm>
            <a:off x="857160" y="371484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5"/>
          <p:cNvSpPr/>
          <p:nvPr/>
        </p:nvSpPr>
        <p:spPr>
          <a:xfrm>
            <a:off x="857160" y="478620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6"/>
          <p:cNvSpPr/>
          <p:nvPr/>
        </p:nvSpPr>
        <p:spPr>
          <a:xfrm>
            <a:off x="857160" y="528624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8:22:11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